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E5D-ECE4-42ED-9FC5-14301319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7DC-912D-4CA7-BC4E-A46910EC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EE9-159D-41A5-8B8D-451C414D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884-50F9-41C4-8080-820E4B46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464-36FC-41F2-B430-1F21BDC8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334-15AF-47F9-84B4-F9AE2B3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779-FFBB-4A33-8396-96B2188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701-18CB-4435-9DB4-3E812889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F2A-8DC8-4C86-95E9-920AD8FA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B23-A183-4108-91C0-09AB2138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14A-1E55-4ABD-8E6D-F6DF005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6DC-E0C5-4AF6-84A5-6DC5093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577B-BBE6-40BC-A42C-5AB26E72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05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forming Liter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76212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l equation – an equation involving two or more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90920"/>
            <a:ext cx="7239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   Transforming Geometric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90392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   Transform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267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478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6:16:10Z</dcterms:created>
  <dc:creator>Susannah Graham</dc:creator>
  <dc:description/>
  <dc:language>en-US</dc:language>
  <cp:lastModifiedBy>Susannah Graham</cp:lastModifiedBy>
  <dcterms:modified xsi:type="dcterms:W3CDTF">2009-07-30T15:24:37Z</dcterms:modified>
  <cp:revision>2</cp:revision>
  <dc:subject/>
  <dc:title>Lesson 2.6 Formulas</dc:title>
</cp:coreProperties>
</file>